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60F-650E-4F14-890B-FC9D5599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6C2-EAD1-45F1-BECD-B13381C7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616-B27F-4E9E-B56B-4971DD6A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FA1-7F3B-4EAA-A400-BA6C9317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B52-6E54-4F96-997A-2052D330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1D1-1EA9-4F83-A8AC-B94D183B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3F1-A378-43A7-AAC6-CA96B0E5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C54-A4BF-4F24-BC3B-21FFD36D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1D2-FB7B-4846-9541-C91B5538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6D0-5792-4A30-9EF2-38AE4E8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556-B610-48FC-8BFA-A11700DC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77F-438D-4237-B40A-203F0139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D83F-EFAF-4C5F-A42A-B85CD1C7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exchiu.com/spread.htm" TargetMode="External"/><Relationship Id="rId2" Type="http://schemas.openxmlformats.org/officeDocument/2006/relationships/hyperlink" Target="http://alexchiu.com/eternallife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odyabcs.com/camp/" TargetMode="External"/><Relationship Id="rId2" Type="http://schemas.openxmlformats.org/officeDocument/2006/relationships/hyperlink" Target="http://www.bodyabcs.com/camp/" TargetMode="External"/><Relationship Id="rId3" Type="http://schemas.openxmlformats.org/officeDocument/2006/relationships/hyperlink" Target="http://www.bodyabcs.com/camp/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752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hat search engine optim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s for blog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tt Cu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gle Software Engi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WordCamp: July 21,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the keywords that users will type. Include them naturally in you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 tags are handy (3-4 relevant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forget image search, vide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ttp://mc.com/blog/change-default-printer-linux-firefo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rl path: /change-default-printer-linux-firefo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tle: Changing the default printer on Linux and Firef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Us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ke sure your site is craw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ke your post creation dates easy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your blog on a cell phone/i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 recommend full-text RSS feeds to get loyal users. Partial feeds get more page views, but not as much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our blog should do standard 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EO tips: moving to a new webh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to switch from one IP address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(Optional) Reduce your DNS time-to-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ck up your site. Bring it up on new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tch Googlebot &amp; user traffic until they fetch the site from the new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ke down the old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EO tips: moving to a new 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andard advice: Use a 301 (permanent) re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en better: pick one subdirectory and move i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he traffic stays roughly the same on the desired domain, go ahead and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therwise, take some time to figure out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andardize your backlinks (www vs. non-ww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to everyone; ask them to update their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free Google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ebmaster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urner: MyBrand for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eeds.mattcutts.com instead of feeds.feedburn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ustom Search Engine: free sit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!-- google_ad_section_start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!-- google_ad_section_end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oogle Analy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Webmaster cons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ttp://www.google.com/webmaster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st out robots.txt before pushing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bmit an authenticated spam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rl removal tool: remove urls/directories for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e your backlinks (helps moving to a new dom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e 404 and craw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e crawl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cide www vs. non-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ack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404s and crawl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e crawl 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258920"/>
            <a:ext cx="68104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iscon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yth: Google hates some sit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exchiu.com/spread.htm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lexchiu.com/eternallife/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4191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ttp://google.com/webmasters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160640"/>
            <a:ext cx="836316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Ranking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009900"/>
                </a:solidFill>
                <a:latin typeface="Arial"/>
              </a:rPr>
              <a:t>Get traffic from Google, then get notic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99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009900"/>
                </a:solidFill>
                <a:latin typeface="Arial"/>
              </a:rPr>
              <a:t>Get noticed, then get traffic from Goog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getting 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vide useful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gn creator that produces 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Phone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lcat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57913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getting 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reativity creates buzz/word-of-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nelygirl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llion pixel hom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umor: Mac vs.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ee hugs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hotoshopping, e.g. Perez Hi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alyze someone else’s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ll your moustache on e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y Google fa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00"/>
                </a:solidFill>
                <a:latin typeface="Arial"/>
              </a:rPr>
              <a:t>David Klein (here today) is taking pictures a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odyabcs.com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cam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getting 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utorials (Firefox, Linux, Ubuntu, fashion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tribute insightfu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ss spam with Gmail, Yahoo, or Hotm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unting down Wikipedia def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ther topics? Watch Techmeme, Reddit, Digg, Slash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ve b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reate controver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hn Dvorak: Master of creating controver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ntion Robert Sc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orge Bush 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e lists: “13 reasons why something rulez/sux0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avoid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default permalink (domain.com/?p=1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se /%postname%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use sponsored theme - can lose all your trust in different search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ayPerPost on wordpress.com: TOS highlights that in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.htaccess in /wp-admin/ (not in your root director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UserFile /dev/nu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GroupFile /dev/nu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Name "Access Control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Type Bas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LIMIT GET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deny,all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y from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whitelist home IP add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rom 123.45.67.8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whitelist work IP add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rom 89.67.45.12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LIMIT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reubenyau.com/protecting-the-wordpress-wp-admin-folde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y WordPress Wish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RSS 0.92 f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vent content at multiple url ali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aching without WP Cac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version string in header.ph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a blank index.html in /plugins/ directory. When a plugin has a security hole, it’s easy to see who to h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tect /wp-admin/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logger SEO tips: More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ooglewebmastercentral.blogspot.com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ttp://www.mattcutts.com/blog/  (S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tephanspencer.com/tag/blog-optimization (blo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ownloadsquad.com/2007/01/15/wordpress-the-complete-post-install-checklist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lugins I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is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Comment Spam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Analytics (put in footer.ph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urner Feed Replacement: MyBrand +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cracy (po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O Title (swap name &lt;-&gt; title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?php if (is_home()) bloginfo('name'); else wp_title(""); 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ve/hate: WP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lugins I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(po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868400"/>
            <a:ext cx="50864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lugins I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Comment Spam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43912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lugins I’m consi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an’s Threade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ent K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thor High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WW Re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rmalink Re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ted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put blog at root page of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you want something besides a blo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link to main page and main blog page, so you get some extra links that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your directory "blog“, not “wordpr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ght want to change your software some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lso makes upgrading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arious keyword tools: AdWords, Overture/Yah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500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O tips: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categories that are also good key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ywords in url paths: domain.com/my-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shes ar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xt best is under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spaces is wo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meone should ask me: </a:t>
            </a:r>
            <a:r>
              <a:rPr b="0" lang="en-AU" sz="3200" spc="-1" strike="noStrike">
                <a:solidFill>
                  <a:srgbClr val="009900"/>
                </a:solidFill>
                <a:latin typeface="Arial"/>
              </a:rPr>
              <a:t>What if I’ve already done my site? Should I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15:44:04Z</dcterms:created>
  <dc:creator>Google</dc:creator>
  <dc:description/>
  <dc:language>en-US</dc:language>
  <cp:lastModifiedBy>Google</cp:lastModifiedBy>
  <dcterms:modified xsi:type="dcterms:W3CDTF">2007-08-10T06:11:09Z</dcterms:modified>
  <cp:revision>12</cp:revision>
  <dc:subject/>
  <dc:title>Whitehat SEO tips for bloggers</dc:title>
</cp:coreProperties>
</file>